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8AE6-A4D7-43D1-AA7A-3C3A7CBCE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8D11-6693-4CB9-8B53-9D65AA0E7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9EC7-CAFB-414C-9B8A-0ED167360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6837-035F-4DD8-9AE3-2AE6621E3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A808-EC4F-41D4-831C-A754C25E2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2691-D30B-4DFB-A3E3-3A7698283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E91D-ED30-4E37-B135-A30ACDFA2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0C6B-9F6E-4367-AD9C-008BB557B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7E0D-166D-4A07-8D0D-6AC75B9D9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ADAD-A830-4DAD-99FB-9D7A0F63F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EB73-F901-4841-BCBF-FF52B6450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2930-63D6-4A53-99F9-D48524CD5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3A1A-0454-4C8B-AF81-9EB52F99E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4E0-4054-4F8A-B56B-E591FD01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E80-450A-4237-904F-8AF50ED1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5E1-A337-446C-B8D4-1D56B08E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704-300B-4990-8DCA-05D53C74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400C-1F4A-42A6-968D-2E792CA5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6CB-4AE3-48DD-A275-E15E2AFF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593-9AA8-46CE-9289-31C508B9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3F0-7C8F-4FE0-95E1-040657C6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542-D305-4DE4-9339-805EEA2D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8A0-C1DC-4799-A1F6-E3E25DF9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798-9160-4A8A-8C68-9422BADF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937-0433-4E32-9A1F-4361DE4F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24A0-5FC2-4DC2-A802-2D7162BF5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edienkunstnetz.de/works/one-year-performance/video/1/" TargetMode="External"/><Relationship Id="rId2" Type="http://schemas.openxmlformats.org/officeDocument/2006/relationships/hyperlink" Target="http://www.c71123.com/daily_photo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311072-106374-34.jp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938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1168560" y="888840"/>
            <a:ext cx="71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://www.medienkunstnetz.de/works/one-year-performance/video/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762120" y="160020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Year Project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dienkunstnetz.de/works/one-year-performance/video/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o see Johnathan Keller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71123.com/daily_phot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279440" y="1490760"/>
            <a:ext cx="4435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434760" y="2571840"/>
            <a:ext cx="32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c71123.com/daily_phot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21:17:31Z</dcterms:created>
  <dc:creator>gte378v</dc:creator>
  <dc:description/>
  <dc:language>en-US</dc:language>
  <cp:lastModifiedBy>Ruth Dusseault</cp:lastModifiedBy>
  <dcterms:modified xsi:type="dcterms:W3CDTF">2015-08-23T13:28:11Z</dcterms:modified>
  <cp:revision>9</cp:revision>
  <dc:subject/>
  <dc:title>Slide 1</dc:title>
</cp:coreProperties>
</file>